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B801-E0A2-4E3E-824A-F4C2F5CB0F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D011-A413-4A6C-AD98-4A4A0743E8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307-E405-41B5-A44A-240DEDE8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AC6-33B9-4CD4-BE28-63439896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44BF-B068-4C53-91C4-E4C396E3F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075-F643-49A3-B871-097B1E1C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6D6C-4489-40B4-B6D3-667E31DC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C2C-5C74-4519-938C-B19A6A6A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C500-5C39-4082-921A-028E39CD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A34-BE7D-4FCD-9EEA-20C538C0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2CD-B740-4CF7-8684-3CF1524B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DFFE-2989-49B8-8980-C7874E10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66D-AA56-454E-B888-95EFC08E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BCB-5297-4E6D-9AD7-3E40FE9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2060-3CF5-49F0-92C7-F8404969F94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7DCC2996-57CD-4242-9865-102957B3DCB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: THE PASSIVE AND THE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2920" y="1233360"/>
            <a:ext cx="885816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11.26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οὑτως πας Ἰσραηλ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ωθησ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and thus all Israel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will be sav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Luke 2:4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εβη δε και Ἰωσηφ ἀπο της Γαλιλαιας ... εἰς πολιν Δαυιδ ἡτι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λει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ηθλεεμ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Joseph also went up from Galilee to (the) city of David which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all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Bethlehe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att.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 οὐν δενδρον μη ποιουν καρπον καλον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κοπτ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εἰ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υρ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βαλλετ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every tree not producing good fruit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ut d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thr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into a fi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5.1: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ικαιωθεντε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ν ἐκ πιστεως εἰρηνην ἐχομεν προς τον θεον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having been justifi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through faith we have peace toward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God …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58640" y="1271520"/>
            <a:ext cx="8215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2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Future and the Aori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43120" y="1959120"/>
          <a:ext cx="3695760" cy="1509480"/>
        </p:xfrm>
        <a:graphic>
          <a:graphicData uri="http://schemas.openxmlformats.org/drawingml/2006/table">
            <a:tbl>
              <a:tblPr/>
              <a:tblGrid>
                <a:gridCol w="1484280"/>
                <a:gridCol w="1165320"/>
                <a:gridCol w="104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-214200" y="3575160"/>
            <a:ext cx="94294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χθησ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Future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ill be 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χθη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as 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ηθει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Aorist Passive Participl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Having been spok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σθην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fini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ζ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To be bapti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85880" y="13716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.5.3 Irregular Future and Aorist P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0880" y="2286000"/>
          <a:ext cx="7305480" cy="3475080"/>
        </p:xfrm>
        <a:graphic>
          <a:graphicData uri="http://schemas.openxmlformats.org/drawingml/2006/table">
            <a:tbl>
              <a:tblPr/>
              <a:tblGrid>
                <a:gridCol w="2435040"/>
                <a:gridCol w="2435400"/>
                <a:gridCol w="243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κο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κουσ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ρ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ωζ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ω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a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ημφ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9320" y="118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regular Future and Aorist Pass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continu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7160" y="1806480"/>
          <a:ext cx="7286760" cy="4480200"/>
        </p:xfrm>
        <a:graphic>
          <a:graphicData uri="http://schemas.openxmlformats.org/drawingml/2006/table">
            <a:tbl>
              <a:tblPr/>
              <a:tblGrid>
                <a:gridCol w="1557360"/>
                <a:gridCol w="2470320"/>
                <a:gridCol w="325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αλ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ρα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αρ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τρε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τ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α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ν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ε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i="1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η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ὠφ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ωεχ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33520" y="2057400"/>
          <a:ext cx="6281640" cy="2706840"/>
        </p:xfrm>
        <a:graphic>
          <a:graphicData uri="http://schemas.openxmlformats.org/drawingml/2006/table">
            <a:tbl>
              <a:tblPr/>
              <a:tblGrid>
                <a:gridCol w="1569960"/>
                <a:gridCol w="1571760"/>
                <a:gridCol w="1569960"/>
                <a:gridCol w="1569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Wan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500120"/>
          <a:ext cx="8344080" cy="4095720"/>
        </p:xfrm>
        <a:graphic>
          <a:graphicData uri="http://schemas.openxmlformats.org/drawingml/2006/table">
            <a:tbl>
              <a:tblPr/>
              <a:tblGrid>
                <a:gridCol w="1386000"/>
                <a:gridCol w="1319040"/>
                <a:gridCol w="2610000"/>
                <a:gridCol w="302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 on the page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236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or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 special meaning of the Middl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te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t is actually in the Passive with Passive meanin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30320" y="1862280"/>
            <a:ext cx="7072200" cy="3569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often helps to be clear about why you find something confus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many students it is because the Middle seems to be Ac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mea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but very close to the Pass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confusingly in the middle!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1281240"/>
            <a:ext cx="731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6.1 Special uses of the Middl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6040" y="1989000"/>
            <a:ext cx="88250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A small number of verbs still use the three voices with differen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Active) - He puts (clothes) on (someone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Middle) – He puts (clothes) on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Passive) – It is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Some writers (particularly the author of Luk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Acts) frequently use the Middle as a stylistic device, imitating classical Greek which was thought at the time to be of greater literary quality (this is called 'archaising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200" y="1162080"/>
            <a:ext cx="87156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σσ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ve – I guard; Middle – I am on my gu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2:8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ποιμενες ἠσαν ἐν τῃ χωρᾳ τῃ αὐτ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Activ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κας της νυκτος ἐπι την ποιμνην αὐ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in that region there were shepherds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keeping w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v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ock by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12:1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εν δε προς αὐτ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∙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ρατε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iddl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σης πλεονεξ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he said to them, 'Look out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 on your gua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gainst a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inds of greed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1.1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μεν πρωτον λογ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οιησαμη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ερι παν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made a first account concerning all the thing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73200" y="2217600"/>
            <a:ext cx="7786440" cy="2703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 aware of these special uses; but remember, the vast majority of the time when you see a Middle, it is a deponent verb conveying an Active meaning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5680" y="2000160"/>
          <a:ext cx="8929800" cy="3108240"/>
        </p:xfrm>
        <a:graphic>
          <a:graphicData uri="http://schemas.openxmlformats.org/drawingml/2006/table">
            <a:tbl>
              <a:tblPr/>
              <a:tblGrid>
                <a:gridCol w="1204920"/>
                <a:gridCol w="1806480"/>
                <a:gridCol w="1103400"/>
                <a:gridCol w="1979640"/>
                <a:gridCol w="1211400"/>
                <a:gridCol w="16239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ου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ηθ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οβ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ρι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ορευ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θη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71600" y="2600280"/>
            <a:ext cx="64008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Act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Jesus heals the le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Pass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The leper is healed.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0E2C8021-FA14-4214-8BE8-14EBEA32476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1 THE IDEA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E82AB6E7-9CC9-40E6-9E19-46D9CE039DE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2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4200" y="2868480"/>
            <a:ext cx="1500480" cy="1937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dl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500280" y="2509920"/>
            <a:ext cx="1785960" cy="2669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M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0"/>
          <p:cNvSpPr/>
          <p:nvPr/>
        </p:nvSpPr>
        <p:spPr>
          <a:xfrm flipV="1">
            <a:off x="3499560" y="3839760"/>
            <a:ext cx="178596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643800" y="1986120"/>
            <a:ext cx="2286000" cy="3400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en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"/>
          <p:cNvSpPr/>
          <p:nvPr/>
        </p:nvSpPr>
        <p:spPr>
          <a:xfrm>
            <a:off x="6643800" y="4429080"/>
            <a:ext cx="228600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2"/>
          <p:cNvCxnSpPr>
            <a:stCxn id="96" idx="3"/>
            <a:endCxn id="97" idx="1"/>
          </p:cNvCxnSpPr>
          <p:nvPr/>
        </p:nvCxnSpPr>
        <p:spPr>
          <a:xfrm>
            <a:off x="1714680" y="3836520"/>
            <a:ext cx="1786320" cy="1188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2" name="Straight Arrow Connector 24"/>
          <p:cNvCxnSpPr/>
          <p:nvPr/>
        </p:nvCxnSpPr>
        <p:spPr>
          <a:xfrm>
            <a:off x="5285880" y="2857680"/>
            <a:ext cx="135828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3" name="Straight Arrow Connector 27"/>
          <p:cNvCxnSpPr/>
          <p:nvPr/>
        </p:nvCxnSpPr>
        <p:spPr>
          <a:xfrm>
            <a:off x="5285880" y="4785840"/>
            <a:ext cx="135828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sp>
        <p:nvSpPr>
          <p:cNvPr id="104" name="TextBox 28"/>
          <p:cNvSpPr/>
          <p:nvPr/>
        </p:nvSpPr>
        <p:spPr>
          <a:xfrm>
            <a:off x="5286240" y="25002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5286240" y="442908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1785960" y="3143160"/>
            <a:ext cx="164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ach of the voices, there are the same range of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4BC1670B-6753-44D2-8D4D-BB45B060E1E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7360" y="1357200"/>
          <a:ext cx="8883720" cy="4572000"/>
        </p:xfrm>
        <a:graphic>
          <a:graphicData uri="http://schemas.openxmlformats.org/drawingml/2006/table">
            <a:tbl>
              <a:tblPr/>
              <a:tblGrid>
                <a:gridCol w="1470240"/>
                <a:gridCol w="1199880"/>
                <a:gridCol w="1197000"/>
                <a:gridCol w="1424160"/>
                <a:gridCol w="1096920"/>
                <a:gridCol w="1170000"/>
                <a:gridCol w="132552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Moo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43000" y="1220760"/>
            <a:ext cx="854388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attern in the Active and in the Middle is the s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ῥυ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 as the exemplar in the Middle rather tha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the Middle is normally used only for the deponent verb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Passive, the pattern of 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ugments is the same as in the Active – the Imperfect and Aorist Indicative has an aug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Aorist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η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Indicative is easily confused with the Aorist in the other Moods in the Active and Middle (both hav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es but no augmen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1696E8C0-5EA2-4ECF-BF83-6E60FB76C64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4 THE MEANING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1752480"/>
          <a:ext cx="8801280" cy="3962520"/>
        </p:xfrm>
        <a:graphic>
          <a:graphicData uri="http://schemas.openxmlformats.org/drawingml/2006/table">
            <a:tbl>
              <a:tblPr/>
              <a:tblGrid>
                <a:gridCol w="1441440"/>
                <a:gridCol w="1492200"/>
                <a:gridCol w="757440"/>
                <a:gridCol w="511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being untied, you are being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e untied, you will be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being untied, you were being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ied, you were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ing untied (simultaneo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been untied (sequenc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7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285920"/>
            <a:ext cx="38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7120" y="2025720"/>
          <a:ext cx="8396280" cy="3475080"/>
        </p:xfrm>
        <a:graphic>
          <a:graphicData uri="http://schemas.openxmlformats.org/drawingml/2006/table">
            <a:tbl>
              <a:tblPr/>
              <a:tblGrid>
                <a:gridCol w="1643040"/>
                <a:gridCol w="1446480"/>
                <a:gridCol w="1971360"/>
                <a:gridCol w="1708200"/>
                <a:gridCol w="162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5360" y="2516040"/>
          <a:ext cx="6858000" cy="2468880"/>
        </p:xfrm>
        <a:graphic>
          <a:graphicData uri="http://schemas.openxmlformats.org/drawingml/2006/table">
            <a:tbl>
              <a:tblPr/>
              <a:tblGrid>
                <a:gridCol w="1859040"/>
                <a:gridCol w="1467000"/>
                <a:gridCol w="1865160"/>
                <a:gridCol w="166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23"/>
          <p:cNvSpPr/>
          <p:nvPr/>
        </p:nvSpPr>
        <p:spPr>
          <a:xfrm>
            <a:off x="714240" y="1571760"/>
            <a:ext cx="4543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612800" y="1557360"/>
            <a:ext cx="5905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1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Present and Imperfec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14200" y="3133800"/>
            <a:ext cx="86439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Middl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ῥυ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Passive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4:05:35Z</dcterms:created>
  <dc:creator>Sarah</dc:creator>
  <dc:description/>
  <dc:language>en-US</dc:language>
  <cp:lastModifiedBy>Sarah</cp:lastModifiedBy>
  <dcterms:modified xsi:type="dcterms:W3CDTF">2008-10-06T15:06:42Z</dcterms:modified>
  <cp:revision>45</cp:revision>
  <dc:subject/>
  <dc:title>Slide 1</dc:title>
</cp:coreProperties>
</file>